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D00-D215-4055-BAE9-A7F41D0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632-6275-4D2D-951D-C022E33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1A9-9034-49DD-A0DF-08B4A3ED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E68-CCA6-47B3-BA7F-A50E3078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13D-4EB0-47D1-9B7A-C506893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830-A943-4185-BB07-9E377E53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2D5-9BFA-49BE-9378-BE003AF7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E5D-4605-47CB-8CFE-E35A947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9BB-C574-486F-B426-9495B25B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0EE-1E26-480F-8D5B-7E7E051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997-7C4E-4823-89B3-CE4E16E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03B-24B3-4084-9264-BA6087D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29C-823D-42F4-A5DC-2499BFD6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3996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tudying the activities of agents used for control of microbial growth, concentrate on understanding the listed  objectives and the material shown in bo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owerPoint is a summary of main points and the World file is a slightly fuller explanation that can be used as a resource to fill in gaps.  It is not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alog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xidizing agents reactive with several types of molecules.  (e.g; iodine binds to tyrosin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ine used as HOCl (bleach). Effective at 0.5 - 1  ppm, but activity reduced rapidly in presence of organic ma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.e., can be hard to inactivate mic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blood ***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alogens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Iodine in anti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cture of iod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 iodine in NaI + dilute alco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in a deter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henol and phenol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rupt plasma membranes and denature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 to leakage of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5:  Joseph Lister used 5% phenol to disinfect surgical instruments and dressings.  Revolutionized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henol and phenol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phe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ol (methyl phenol) in coal tar so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chlorophene in so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lorinated biphenyl with excellent activity against Gram-positive bacteria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an cause neurologic side-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lcohol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 (e.g.; isopropyl alcoh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id solvents and some protein denaturatio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dely used as 70% ethanol or isopropanol for disinfection of thermometer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urfactant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soaps and deter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face active substances contain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philic and hydrophobic groups.  Activity causes decreased sur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sion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Quaternary ammonium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char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hydrophobic ch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reaction with phosphate in phospho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urfactant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 (soaps and deter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ic detergents:  Hospital floors and walls, food processing plants,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onic detergents:  Act on lipoprotein portion  of membrane.  Milder than cationic detergents.  (Home use in soap and dete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707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lkylating ag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rmaldehy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alming, histology, vaccines (kills but antigenic epitopes may surv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utaraldehy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delicate surgical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00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eavy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, Ag, 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 to -SH groups and cause protein denat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c mercury compounds for antisepsis on skin and urethral irrigation, + disinfection of instruments. (merthiol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% silver nitrate for prevention of ophthalmia neonatorum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I  Objectives - Clinical Setting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sett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``````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physical processes being used to control microbial growth and compare the efficiency of both wet vs dry heating and  u.v. v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rradiation for ster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why filtration of air or liquids does not remove virus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“antiseptic” and  “disinfec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mode of action of phenol, alcohols, halogens, surfactants, alkylating agents (e.g. aldehydes such as glutaraldehyde) and heavy metals when used for antisepsis or as disinfe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crobial control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 setting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sett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``````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533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of infection is a major concern in medical procedures, especially those associated with direct access to blo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al Controls - Hea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sett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``````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t heat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ore effectiv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than Dry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iling alone does not kill several spore-forming bacteria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ostridi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 but generally kills bacteria that do not form sp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t Steriliz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et heat:  121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C, 15 m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versible inactivation of sp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rane disruption and protein denatu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y heat: 16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C, 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constituents and protein denatu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rilization without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oes not remov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2 um- 0.45 um diam of pores remove bacteria and fungi.   (May allow mycoplasma to squeeze throug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onizing radiatio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Penetrates we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hydroxyl free radicals and peroxid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used for pla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V ligh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Does not penetrate well, used for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pyrimidine dimers in DN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 -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henol and phenolics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3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cohols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pid sol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rfact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ternar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sma membrane vi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ti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aps, hom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sma membrane vi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detergen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po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492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Control - Summary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logens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odin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yrosine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 as HOCl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xid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3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kylating agents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nature proteins vi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tachment of methyl an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thy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451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avy metals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ein denat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20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mical Contro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isinfectant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nimat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ntiseptics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on body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5:16:12Z</dcterms:created>
  <dc:creator>pflehmann</dc:creator>
  <dc:description/>
  <dc:language>en-US</dc:language>
  <cp:lastModifiedBy>Ronald Mark Wooten</cp:lastModifiedBy>
  <dcterms:modified xsi:type="dcterms:W3CDTF">2008-10-01T20:36:50Z</dcterms:modified>
  <cp:revision>5</cp:revision>
  <dc:subject/>
  <dc:title>Slide 1</dc:title>
</cp:coreProperties>
</file>